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12B8-793A-4A6A-BD12-22B1A3EC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682640" y="54036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1E3C-CCF4-46DB-80AF-1C408A58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6260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020B-3A06-45FC-941E-2FFA9604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4660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092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68264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4660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092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15D5-0FA0-46BC-8B4B-DF56CCF9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96107-F971-4F8C-AFD9-E472714D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EBCBE-D502-43D7-98EF-6D028E4D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3238D-C37D-4019-91BA-CBF6638E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AD365-5384-4A2C-BDFC-B12F52F8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F2B9E-9A49-4F64-B5ED-15B8DAE6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6840" y="2509560"/>
            <a:ext cx="7772400" cy="81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66D76-0CA6-4A10-A196-5A0AD57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49988-DD99-4642-9E29-F06BAE6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6793-3DF4-43E3-A3AE-8C5FB1DE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6260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37DDE-0728-4111-AC4A-4580B50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B1CE3-9D69-42AC-A411-1396474F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82640" y="54036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43B1B-335A-48E1-8FC6-D9658EBF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6260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06768-223F-49D9-A405-AED8CDDA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4660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092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8264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4660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092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C7129-4892-472E-A1A4-D32959B6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82A9-0CFE-4C2C-8FC6-242AF4BD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B977-4CC1-472E-990A-7EB96342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5723-704E-4341-A674-D612ABE6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96840" y="2509560"/>
            <a:ext cx="7772400" cy="81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20CE-975C-4D15-B1BB-9B453724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579A-37B7-4FB7-9C13-60FD1CB3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6260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0063-19F7-48AE-A10D-6C074CF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747F-488F-420C-A85A-A3D5084F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3722760" y="1455840"/>
              <a:ext cx="5343480" cy="339480"/>
            </a:xfrm>
            <a:custGeom>
              <a:avLst/>
              <a:gdLst/>
              <a:ahLst/>
              <a:rect l="l" t="t" r="r" b="b"/>
              <a:pathLst>
                <a:path w="3366" h="276">
                  <a:moveTo>
                    <a:pt x="0" y="0"/>
                  </a:moveTo>
                  <a:cubicBezTo>
                    <a:pt x="1683" y="0"/>
                    <a:pt x="3366" y="0"/>
                    <a:pt x="3366" y="0"/>
                  </a:cubicBezTo>
                  <a:cubicBezTo>
                    <a:pt x="3366" y="0"/>
                    <a:pt x="3366" y="138"/>
                    <a:pt x="3366" y="276"/>
                  </a:cubicBezTo>
                  <a:cubicBezTo>
                    <a:pt x="1759" y="276"/>
                    <a:pt x="910" y="276"/>
                    <a:pt x="483" y="276"/>
                  </a:cubicBezTo>
                  <a:cubicBezTo>
                    <a:pt x="124" y="276"/>
                    <a:pt x="76" y="138"/>
                    <a:pt x="0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3200" y="41400"/>
              <a:ext cx="2432160" cy="1982520"/>
            </a:xfrm>
            <a:custGeom>
              <a:avLst/>
              <a:gdLst/>
              <a:ahLst/>
              <a:rect l="l" t="t" r="r" b="b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090880" y="561960"/>
              <a:ext cx="7053120" cy="74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71b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449360"/>
              <a:ext cx="9144000" cy="235080"/>
            </a:xfrm>
            <a:prstGeom prst="rect">
              <a:avLst/>
            </a:pr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74880" y="638280"/>
              <a:ext cx="8169120" cy="8125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3200" y="66600"/>
              <a:ext cx="2281320" cy="1833480"/>
            </a:xfrm>
            <a:custGeom>
              <a:avLst/>
              <a:gdLst/>
              <a:ahLst/>
              <a:rect l="l" t="t" r="r" b="b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3800" y="122400"/>
              <a:ext cx="973080" cy="973080"/>
            </a:xfrm>
            <a:prstGeom prst="ellipse">
              <a:avLst/>
            </a:pr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87240" y="1447920"/>
              <a:ext cx="303480" cy="237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82680" y="1446120"/>
              <a:ext cx="306360" cy="238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3320" y="1446120"/>
              <a:ext cx="295200" cy="238320"/>
            </a:xfrm>
            <a:prstGeom prst="rect">
              <a:avLst/>
            </a:prstGeom>
            <a:solidFill>
              <a:srgbClr val="c3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" name=""/>
              <p:cNvSpPr/>
              <p:nvPr/>
            </p:nvSpPr>
            <p:spPr>
              <a:xfrm>
                <a:off x="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05652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0800000">
                <a:off x="8440560" y="604836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1440"/>
                <a:ext cx="914400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783480"/>
                <a:ext cx="914400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V="1">
                <a:off x="0" y="605160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8440560" y="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ldNum" idx="2"/>
          </p:nvPr>
        </p:nvSpPr>
        <p:spPr>
          <a:xfrm>
            <a:off x="7097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BC1-F5E3-4037-89A2-015FB4C41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body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dt" idx="3"/>
          </p:nvPr>
        </p:nvSpPr>
        <p:spPr>
          <a:xfrm>
            <a:off x="96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3581280" y="4343400"/>
              <a:ext cx="556272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1b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11600" y="4259160"/>
              <a:ext cx="5343480" cy="339840"/>
            </a:xfrm>
            <a:custGeom>
              <a:avLst/>
              <a:gdLst/>
              <a:ahLst/>
              <a:rect l="l" t="t" r="r" b="b"/>
              <a:pathLst>
                <a:path w="3366" h="276">
                  <a:moveTo>
                    <a:pt x="0" y="0"/>
                  </a:moveTo>
                  <a:cubicBezTo>
                    <a:pt x="1683" y="0"/>
                    <a:pt x="3366" y="0"/>
                    <a:pt x="3366" y="0"/>
                  </a:cubicBezTo>
                  <a:cubicBezTo>
                    <a:pt x="3366" y="0"/>
                    <a:pt x="3366" y="138"/>
                    <a:pt x="3366" y="276"/>
                  </a:cubicBezTo>
                  <a:cubicBezTo>
                    <a:pt x="1759" y="276"/>
                    <a:pt x="910" y="276"/>
                    <a:pt x="483" y="276"/>
                  </a:cubicBezTo>
                  <a:cubicBezTo>
                    <a:pt x="124" y="276"/>
                    <a:pt x="76" y="138"/>
                    <a:pt x="0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362320"/>
              <a:ext cx="9144000" cy="198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71b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4382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71b7b5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0"/>
              <a:ext cx="3584520" cy="3433680"/>
            </a:xfrm>
            <a:custGeom>
              <a:avLst/>
              <a:gdLst/>
              <a:ahLst/>
              <a:rect l="l" t="t" r="r" b="b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5000" y="130320"/>
              <a:ext cx="1743120" cy="1742760"/>
            </a:xfrm>
            <a:prstGeom prst="ellipse">
              <a:avLst/>
            </a:pr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7240" y="4273560"/>
              <a:ext cx="303480" cy="237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680" y="4272120"/>
              <a:ext cx="306360" cy="2379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3320" y="4272120"/>
              <a:ext cx="295200" cy="237960"/>
            </a:xfrm>
            <a:prstGeom prst="rect">
              <a:avLst/>
            </a:prstGeom>
            <a:solidFill>
              <a:srgbClr val="c3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74" name=""/>
              <p:cNvSpPr/>
              <p:nvPr/>
            </p:nvSpPr>
            <p:spPr>
              <a:xfrm>
                <a:off x="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5652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0800000">
                <a:off x="8440560" y="604836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1440"/>
                <a:ext cx="914400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6783480"/>
                <a:ext cx="914400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0" y="605160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8440560" y="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7097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298B-B3FC-4078-AFDC-891AF3E07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6"/>
          </p:nvPr>
        </p:nvSpPr>
        <p:spPr>
          <a:xfrm>
            <a:off x="96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1560" y="649800"/>
            <a:ext cx="868176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rm-up:  Find the circum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r = 3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d = 4.5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d = 138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r = 17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 of rectangles and rectangular pr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9250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meter - The distance around the outside of a two-dimensional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124080"/>
            <a:ext cx="3886200" cy="1067040"/>
          </a:xfrm>
          <a:prstGeom prst="rect">
            <a:avLst/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9880" y="4419720"/>
            <a:ext cx="477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S + S + S +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er of a rectangle:  P = 2l + 2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er of a square:  P = 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 of rectangles and rectangular pr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3976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:  The space covered by a shape (or square units it would take to cover a sh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200400"/>
            <a:ext cx="1981440" cy="1295280"/>
          </a:xfrm>
          <a:prstGeom prst="rect">
            <a:avLst/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7520" y="45752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length x width (A= l x w)  (A = l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a square:  A =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1218960"/>
            <a:ext cx="73976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 and area of each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2438280"/>
            <a:ext cx="4343400" cy="685800"/>
          </a:xfrm>
          <a:prstGeom prst="rect">
            <a:avLst/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5160" y="24987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0" y="3200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48880" y="2193840"/>
            <a:ext cx="14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360" y="37638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4267080"/>
            <a:ext cx="1676520" cy="1524240"/>
          </a:xfrm>
          <a:prstGeom prst="rect">
            <a:avLst/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94760" y="47084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3080" y="3870360"/>
            <a:ext cx="14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3976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olu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mount of space filling a 3 dimensional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8880" y="2360520"/>
            <a:ext cx="64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length x width x height     (can be in any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        or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4343400"/>
            <a:ext cx="914400" cy="1600200"/>
          </a:xfrm>
          <a:prstGeom prst="cube">
            <a:avLst>
              <a:gd name="adj" fmla="val 25000"/>
            </a:avLst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0880" y="38703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20040" y="41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840" y="48006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42940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82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issing dimen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6 cm.    W = 4 cm.    P = 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7 in.    W = ___ in.    P = 20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21 in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__ ft.   W = 9 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P = 38 f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2 yds.  W = 3 yds.   H = 8 yd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3:51:05Z</dcterms:created>
  <dc:creator>Brian McGrath</dc:creator>
  <dc:description/>
  <dc:language>en-US</dc:language>
  <cp:lastModifiedBy>Brian McGrath</cp:lastModifiedBy>
  <dcterms:modified xsi:type="dcterms:W3CDTF">2010-02-23T03:52:03Z</dcterms:modified>
  <cp:revision>2</cp:revision>
  <dc:subject/>
  <dc:title>Warm-up:  Find the circumference</dc:title>
</cp:coreProperties>
</file>